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3B9-9453-4737-A14B-B1DA310C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C3D-C96C-40C4-83BB-FDEB02D0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B4D-4DFE-408C-B034-D5D77531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3FF-98A7-4670-A39C-4E6C3357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FE8-D125-4D15-8C65-721B1975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17A-A230-42E5-90EA-67BFDB2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F27-5C6C-41EA-BE27-8DAB66D0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20E-473A-4FF1-9989-F7344258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60B-CD7C-4D12-9CF4-4E7CE26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5BE-6CC5-4BDD-87B3-0AF6C10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9FE-D5AB-45B8-827A-29A80D4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33A-2AC4-40CD-B881-8C08F53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7743-A444-4EF7-B850-B4D5E9BE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4.gif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4.gif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digitales/spanj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396108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268280"/>
            <a:ext cx="813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itar la destruc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n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ace falta reciclar botellas y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 debemos destruir nuestro plan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 el futuro reciclaremos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Que será, s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ace falta apagar la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¿Qué tal los deberes sobre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2920" y="486900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verdur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762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1109520"/>
            <a:ext cx="5040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arroz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2814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4869000"/>
            <a:ext cx="64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ensal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486900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salchich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alchichas al vino"/>
          <p:cNvPicPr/>
          <p:nvPr/>
        </p:nvPicPr>
        <p:blipFill>
          <a:blip r:embed="rId1"/>
          <a:stretch/>
        </p:blipFill>
        <p:spPr>
          <a:xfrm>
            <a:off x="3143160" y="652320"/>
            <a:ext cx="4884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oll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2102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4869000"/>
            <a:ext cx="77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2610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Jamon Serano,  Pata Negra"/>
          <p:cNvPicPr/>
          <p:nvPr/>
        </p:nvPicPr>
        <p:blipFill>
          <a:blip r:embed="rId11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61040" cy="351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0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0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Jamon Serano,  Pata Negra"/>
          <p:cNvPicPr/>
          <p:nvPr/>
        </p:nvPicPr>
        <p:blipFill>
          <a:blip r:embed="rId1"/>
          <a:stretch/>
        </p:blipFill>
        <p:spPr>
          <a:xfrm>
            <a:off x="4397400" y="306864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08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phrases to describe the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mark together the future tense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evise how to form the future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revise basic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learn 12 basic foods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find out what each other likes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) To find out how to use the verb “gu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8) To write about each other’s eat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2017800" cy="173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08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942920" cy="1522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108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1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0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115272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Jamon Serano,  Pata Negra"/>
          <p:cNvPicPr/>
          <p:nvPr/>
        </p:nvPicPr>
        <p:blipFill>
          <a:blip r:embed="rId2"/>
          <a:stretch/>
        </p:blipFill>
        <p:spPr>
          <a:xfrm>
            <a:off x="826920" y="20606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salchichas al vino"/>
          <p:cNvPicPr/>
          <p:nvPr/>
        </p:nvPicPr>
        <p:blipFill>
          <a:blip r:embed="rId3"/>
          <a:stretch/>
        </p:blipFill>
        <p:spPr>
          <a:xfrm>
            <a:off x="826920" y="3141720"/>
            <a:ext cx="1152720" cy="925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4859280" y="1125360"/>
            <a:ext cx="1368360" cy="912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4859280" y="2205000"/>
            <a:ext cx="1511280" cy="916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4859280" y="3141720"/>
            <a:ext cx="1297080" cy="1212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468360" y="422100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4932360" y="4451400"/>
            <a:ext cx="1368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0"/>
            <a:ext cx="8964720" cy="71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a co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f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chifl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really really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encant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realy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ensalad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sal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gust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fru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fr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da(n) ig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don’t mi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car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e gusta(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don’t li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s huev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i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I h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salchich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saus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que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chee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verdur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rro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Qué te gusta c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j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h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pesca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fi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p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b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poll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ch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419640" y="4869000"/>
          <a:ext cx="5545080" cy="17287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6681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50920" y="0"/>
            <a:ext cx="388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na persona le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s personas l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na persona le gust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s personas l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ust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ie 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s personas odi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71280"/>
            <a:ext cx="4105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body 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person 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ople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person 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ople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body h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eople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4149720"/>
            <a:ext cx="7775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Qué significa me gusta EXACT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is pleasing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“it” be used to describe more than 1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does the “le” mean? Can that refer to more than 1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0"/>
            <a:ext cx="864072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m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t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him /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o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no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n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. po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_ gust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for plur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6221520"/>
            <a:ext cx="82087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write up the results of you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m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89000"/>
            <a:ext cx="835344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uture tense is normally translated in English by the boy’s name 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uses a series of endings which you put on the _____ of the infin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3 types of infinitive, ____ , ____ and 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nding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o not change for the different infinitive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ndings for the future are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 / she /it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polite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(pl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(plural, polite)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47628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98100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844640"/>
            <a:ext cx="7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1844640"/>
            <a:ext cx="7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1844640"/>
            <a:ext cx="7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234936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21300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364500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40766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5086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4941720"/>
            <a:ext cx="107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37372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573408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80360" y="616572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Jamon Serano,  Pata Negra"/>
          <p:cNvPicPr/>
          <p:nvPr/>
        </p:nvPicPr>
        <p:blipFill>
          <a:blip r:embed="rId11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m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ques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81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jam</a:t>
            </a:r>
            <a:r>
              <a:rPr b="0" lang="en-GB" sz="9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Jamon Serano,  Pata Neg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591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escad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52720" y="1407960"/>
            <a:ext cx="37800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frut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09840" y="620640"/>
            <a:ext cx="33638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57:49Z</dcterms:created>
  <dc:creator>Owner1</dc:creator>
  <dc:description/>
  <dc:language>en-US</dc:language>
  <cp:lastModifiedBy>Owner1</cp:lastModifiedBy>
  <dcterms:modified xsi:type="dcterms:W3CDTF">2008-10-22T10:35:49Z</dcterms:modified>
  <cp:revision>9</cp:revision>
  <dc:subject/>
  <dc:title>Slide 1</dc:title>
</cp:coreProperties>
</file>